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35D-5C66-4D01-B115-1BE82BCA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873-72A1-46BB-8074-E699A19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38D-A882-4AEF-8923-40C0F0AD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96E-6395-4958-9459-0B65B5C0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3B3-E852-4470-85BC-AD142D0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3E2-FE73-49EF-8731-8BF26F50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CBA-9EB0-429C-9D6E-8D81321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D21-AF25-431B-834A-58307A6A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3643-58DE-4D0C-945F-7994884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5FE-ADE4-4828-A78E-5312C9D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025-00EF-45C1-B141-EDC7374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535-539D-4E5A-A092-6CCE3E74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792-26EF-404C-A06D-1171149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E8C-B614-465A-8A06-F4622B7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090B-DAA6-4CCB-A754-2C459BBF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4A4-8EEC-4B1E-AE5C-02B58373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720-1BFA-4497-939E-03B871E3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0A9-4DCE-46B7-9B6B-8FEC0F15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182-BA1F-48B4-B249-FBE88002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705-A256-4150-AACA-697A776B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6C2-7D5B-4E97-A025-3CA32A7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F04-919E-49E2-A74D-2D5B2ED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90A-44DA-443B-A8B3-25CFE47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E5F-3768-43CD-90CC-10EF15E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BEA-4195-417D-8D5D-D0155E140C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6D50-3ACD-47B1-A098-33F3B873374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United Kingdom, 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4, Lesson 9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1 Kings 2, Pages 110-114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avid’s Charge to Solom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and courageo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bey the Lord’s commandmen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avid’s advice concern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oab; do not let him go to the grave in pe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arzillai; show kindness to his s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imei; bring him down to the grave in blood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Death of Davi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0-1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ved 7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igned 4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Hebron, 7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Jerusalem, 33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ried in city of David (Jerusalem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now established as king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donijah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3-2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donijah wanted Abishag for his w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ill bitter that he was not k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ent to Bathsheba to get Solomon’s permissi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lomon outraged at the reques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aw through the schem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Knew what it would mean if granted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told to kill Abiatha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biathar Banishe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6-2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iathar had helped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ared the death senten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moved from the priestho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ulfilled God’s promise at Shiloh that the priesthood would depart from Eli’s house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(1 Sam. 2:13-35)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athoth became his pris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adok made priest - returned the priesthood to the family of Eliez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Joab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8-3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eard Adonijah killed and Abiathar banished; knew his fat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ok refuge in the tabernacle to plead for merc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ad killed men (Abner and Amasa) better than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told Benaiah to killed Joab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member the rule of Ex. 21:14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became commander of the arm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Shimei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36-46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“grounds” Shimei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fter 3 years, Shimei violates his paro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reminded him of his oath to G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imei Put To Dea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has now “cleaned house” of his father’s enem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876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Don Vines</cp:lastModifiedBy>
  <dcterms:modified xsi:type="dcterms:W3CDTF">2005-04-28T20:15:28Z</dcterms:modified>
  <cp:revision>7</cp:revision>
  <dc:subject/>
  <dc:title>GIVE US A KING The United Kingdom, Part 2</dc:title>
</cp:coreProperties>
</file>